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21.jpeg" ContentType="image/jpeg"/>
  <Override PartName="/ppt/media/image15.wmf" ContentType="image/x-wmf"/>
  <Override PartName="/ppt/media/drumroll.wav" ContentType="audio/x-wav"/>
  <Override PartName="/ppt/media/image20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jpeg" ContentType="image/jpeg"/>
  <Override PartName="/ppt/media/chimes.wav" ContentType="audio/x-wav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91350" cy="927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991200" cy="9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77920" y="696600"/>
            <a:ext cx="4635360" cy="34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31680" y="4404960"/>
            <a:ext cx="5126040" cy="4173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881208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Murphy Scrip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urphy Script"/>
              </a:rPr>
              <a:t>5A's Game Plan, 2001-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960720" y="881208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Murphy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D797B0F-1366-4291-A25B-1EA9AEA64770}" type="slidenum">
              <a:rPr b="0" lang="en-US" sz="1200" spc="-1" strike="noStrike">
                <a:solidFill>
                  <a:srgbClr val="000000"/>
                </a:solidFill>
                <a:latin typeface="Murphy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0" y="881208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urphy Script"/>
              </a:rPr>
              <a:t>5A's Game Plan, 2001-2002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960720" y="881208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A43BA5B-FCD6-4B8C-A303-F7376BD2E1ED}" type="slidenum">
              <a:rPr b="0" lang="en-US" sz="1200" spc="-1" strike="noStrike">
                <a:solidFill>
                  <a:srgbClr val="ffffff"/>
                </a:solidFill>
                <a:latin typeface="Murphy Scrip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04960"/>
            <a:ext cx="51260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CEA-4965-450B-8F20-15B9CF27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3D6-79DC-441B-8AB3-6F587280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7E8-3422-4ACE-A4FF-1A60E56A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97E-39A8-4425-B5AF-BA394787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E1CD-A1AF-42E6-9D68-8AE1B3B6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0541-CF79-4676-9E55-0D05545B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5C77-1D8F-4FFB-87AF-81099A6A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4C51-CEF0-4540-B7E8-59D64D3A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9C20-0E9F-4A56-8247-DD1710A2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69D4-9FE6-4008-BB35-193A5167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5D73-296E-43B1-8BFF-B4DE3EEA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9FF-23C1-4F90-B185-88757934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F482-A6FA-4B78-96FA-F8DAA6E2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18FC-9A98-4F24-AE8D-BFD57703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CAD9-E6AE-487F-B43A-750E6E0A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2F66-C740-4665-9BC5-102BA45F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43B2-54A1-44AC-8930-826FF2F9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45F-4972-4BDC-8F7D-D7C30CB1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069-542E-4517-AF68-9BDCE61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D83-D7E0-4206-9645-97B73440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A8E-28B9-4595-9BB9-9506D89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B29-0876-4660-95E3-98532F14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5F6-7588-4E45-B677-C6B0483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4D1-444D-4B1B-B5E3-FCB618A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53F5-1AFD-4A65-B8EE-9EF9428DE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247A-E966-4560-8B16-0ECDAF2B73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5a2011.wikispaces.com/" TargetMode="External"/><Relationship Id="rId2" Type="http://schemas.openxmlformats.org/officeDocument/2006/relationships/hyperlink" Target="http://www.5th2011.wikispaces.com/" TargetMode="External"/><Relationship Id="rId3" Type="http://schemas.openxmlformats.org/officeDocument/2006/relationships/hyperlink" Target="http://www.cm5c.wikispaces.com/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5a2011.wikispaces.com/news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9AA7-9751-430E-9D3D-DD7028EF9F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Jokerman"/>
              </a:rPr>
              <a:t>Welcome to 5</a:t>
            </a:r>
            <a:r>
              <a:rPr b="0" lang="en-US" sz="4400" spc="-1" strike="noStrike" baseline="30000">
                <a:solidFill>
                  <a:srgbClr val="ccecff"/>
                </a:solidFill>
                <a:latin typeface="Jokerman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Jokerman"/>
              </a:rPr>
              <a:t> Grade!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Jokerman"/>
              </a:rPr>
              <a:t>We are glad you are here!</a:t>
            </a:r>
            <a:br>
              <a:rPr sz="44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s. Jennifer Bouska – 5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rs. Jennifer Reed – 5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rs. Kathy Stamets – 5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rrie Martin Elementary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6" descr=""/>
          <p:cNvPicPr/>
          <p:nvPr/>
        </p:nvPicPr>
        <p:blipFill>
          <a:blip r:embed="rId1"/>
          <a:stretch/>
        </p:blipFill>
        <p:spPr>
          <a:xfrm>
            <a:off x="2895480" y="4495680"/>
            <a:ext cx="373392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C9D5-2F29-49D3-936D-6EDF713C3D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Social and Work Habits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Section of the Report Car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ccepts responsibility for personal 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s courteous and respectf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hows self-discip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rticipates/Contributes in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orks well with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051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istens to and follows dir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letes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es time wis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plays independence in wo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b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s material available and re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143000" y="13716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You’ll also earn marks for Outstanding, Expected, or Needs Improvement in these social and work habit area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9051-5366-4D8C-A2C8-97C65D69AE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n 5</a:t>
            </a:r>
            <a:r>
              <a:rPr b="0" lang="en-US" sz="32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 grade, we have just a few important rules to help us focus on learning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p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belong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opi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8" descr="MCj03839720000[1]"/>
          <p:cNvPicPr/>
          <p:nvPr/>
        </p:nvPicPr>
        <p:blipFill>
          <a:blip r:embed="rId1"/>
          <a:stretch/>
        </p:blipFill>
        <p:spPr>
          <a:xfrm>
            <a:off x="3809880" y="4800600"/>
            <a:ext cx="1371600" cy="1122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32767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5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 Grade Rules!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41972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 ac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 wor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 mistak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my success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67CB-8E7A-4923-8288-F4B63717A8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itive Behavior Makes a Differenc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sh for Class” – for shopp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ught RO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cognition by Mrs. Weitzel at the end of the qu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pected or Outstanding mark on the report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C0F4-7687-43BB-9C9E-D1DFD2A684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Consequences to Avoi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directs (warnin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foc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tudents may complete a Refocus Sheet that will be sent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ss of re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-school susp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sp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nes (loss of “Cash for Class” doll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ss of privileges for participation in fu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eds improvement mark on the report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50C0-F5B0-40BC-BD56-1AB70C036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Homewor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mework is intended to reinforce skills we’ve learned in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re will be days that homework can be started during class.  On these occasions, be sure to use your time wisely and ask your teachers questions.</a:t>
            </a:r>
            <a:r>
              <a:rPr b="0" lang="en-US" sz="2400" spc="-1" strike="noStrike">
                <a:solidFill>
                  <a:srgbClr val="d9fd25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you don’t have time to do a good job on the assignment, please take it home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the Five Steps to Homework Succ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DF2F-C64B-48CF-95C6-76240AC753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ve Steps to Homework Success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Write the assignment down in your plan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ake home all of the materials you’ll need to complete the homework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Complete the homework carefully, proofreading and checking for quality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Put your homework in a safe place in your backpack or bi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d25"/>
                </a:solidFill>
                <a:latin typeface="Arial"/>
              </a:rPr>
              <a:t>5. Bring the assignment back to school and turn it in at the assigned time with your name on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4495680" y="2590920"/>
            <a:ext cx="257400" cy="304560"/>
          </a:xfrm>
          <a:prstGeom prst="downArrow">
            <a:avLst>
              <a:gd name="adj1" fmla="val 50000"/>
              <a:gd name="adj2" fmla="val 295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4495680" y="1523880"/>
            <a:ext cx="257400" cy="304920"/>
          </a:xfrm>
          <a:prstGeom prst="downArrow">
            <a:avLst>
              <a:gd name="adj1" fmla="val 50000"/>
              <a:gd name="adj2" fmla="val 296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4495680" y="3809880"/>
            <a:ext cx="257400" cy="304920"/>
          </a:xfrm>
          <a:prstGeom prst="downArrow">
            <a:avLst>
              <a:gd name="adj1" fmla="val 50000"/>
              <a:gd name="adj2" fmla="val 296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4495680" y="4800600"/>
            <a:ext cx="257400" cy="304920"/>
          </a:xfrm>
          <a:prstGeom prst="downArrow">
            <a:avLst>
              <a:gd name="adj1" fmla="val 50000"/>
              <a:gd name="adj2" fmla="val 296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ekly 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ath: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vestigations page almost every evening Mon. – Thurs. &amp; study for 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math fac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Reading: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50 minutes on log due every Thur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pelling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onday – Sor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uesday – Sentences Page (last page of spelling packet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ednesday – Pretest at home with parent/adult signatur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You can do a pretest on SpellingCity.com if you are able to print your result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ursday – In class t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cience &amp; Social Studies: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signments based on unit of stud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3AA2-D985-4B12-A344-95184817C3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AA62-000F-48F1-B163-1C6CF2E9E0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lanner Example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similar to student planner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752480" y="182880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 D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 “Fox Song;” answer questions 1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nesday, Sept. 7 at 8:45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gu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 p. 10 on types of senten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ursday, Sept. 8 at 11:55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ll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ish Lesson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esday, Sept. 6 at 9:20 a.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tice math fa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z on Fri., Sept.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 and take notes over Chapter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s due on Mon., Sept.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for quiz on process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z on Tues., Sept. 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62"/>
          <p:cNvSpPr/>
          <p:nvPr/>
        </p:nvSpPr>
        <p:spPr>
          <a:xfrm>
            <a:off x="2031840" y="11923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ate:  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7" name="Picture 63" descr="MCj04414000000[1]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"/>
          <p:cNvSpPr/>
          <p:nvPr/>
        </p:nvSpPr>
        <p:spPr>
          <a:xfrm>
            <a:off x="228600" y="5638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***Planners must be signed by parents/guardians every night.***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7657-ECB3-445E-B769-83B412B8B7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Late Work Polic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r homework is not turned in on time, use a homework coupon (2 coupons per quarter) or you will earn a 0% for incomplete work if you are out of coupo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ly, you will receive a refocus for not being prepared for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if you use a coupon or earn a 0% for incomplete work, you should complete the missed work to keep up with your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4" descr="MCj04375630000[1]"/>
          <p:cNvPicPr/>
          <p:nvPr/>
        </p:nvPicPr>
        <p:blipFill>
          <a:blip r:embed="rId1"/>
          <a:stretch/>
        </p:blipFill>
        <p:spPr>
          <a:xfrm>
            <a:off x="6477120" y="76320"/>
            <a:ext cx="82224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5EF6-C22C-46C4-BA60-6C9327D689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Hour of Consistent Homework Tim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e expect you to develop good study habits.  This is essential for next ye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uring the 1-hour homework time, you shoul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)  Finish assignments that are due the next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2)  Work on long-term assignments/project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3)  Study for routine tests: spelling and ma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4)  Review for major te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)  Read, Read, Rea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5" descr="MCj03974900000[1]"/>
          <p:cNvPicPr/>
          <p:nvPr/>
        </p:nvPicPr>
        <p:blipFill>
          <a:blip r:embed="rId1"/>
          <a:stretch/>
        </p:blipFill>
        <p:spPr>
          <a:xfrm>
            <a:off x="3733920" y="5029200"/>
            <a:ext cx="182556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1D81-6095-4959-AD24-0CF772DE6A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Narrow"/>
              </a:rPr>
              <a:t>Welcome to 5</a:t>
            </a:r>
            <a:r>
              <a:rPr b="0" lang="en-US" sz="54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5400" spc="-1" strike="noStrike">
                <a:solidFill>
                  <a:srgbClr val="ccecff"/>
                </a:solidFill>
                <a:latin typeface="Arial Narrow"/>
              </a:rPr>
              <a:t> Grade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0" y="4648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 are glad you’re he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2" descr="MCPE00321_0000[1]"/>
          <p:cNvPicPr/>
          <p:nvPr/>
        </p:nvPicPr>
        <p:blipFill>
          <a:blip r:embed="rId1"/>
          <a:stretch/>
        </p:blipFill>
        <p:spPr>
          <a:xfrm>
            <a:off x="3657600" y="2057400"/>
            <a:ext cx="22114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AB73-ACF3-406D-85E1-52DF0051AB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Create Positive Study Habi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oose a quiet study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ad and follow all dir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o your work neatly and carefu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k for help if you need it, but do the work you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isten carefully to what your teacher tells you to read or study.  Pay attention to what the teacher emphasizes or str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now what kind of a test you’re going to h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view and recite the facts you’ve lear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MPj04095080000[1]"/>
          <p:cNvPicPr/>
          <p:nvPr/>
        </p:nvPicPr>
        <p:blipFill>
          <a:blip r:embed="rId1"/>
          <a:stretch/>
        </p:blipFill>
        <p:spPr>
          <a:xfrm>
            <a:off x="5638680" y="1219320"/>
            <a:ext cx="2743200" cy="183024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A28B-D44F-4DB6-B69E-443235252B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Assess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ekly assignments and/or tests in spelling,  reading, writing, math facts, math, science, and social stu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ct tests in reading, language, and math in September and Jan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te tests in reading, writing, math, and science in March/Apr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4" descr="MPj04395430000[1]"/>
          <p:cNvPicPr/>
          <p:nvPr/>
        </p:nvPicPr>
        <p:blipFill>
          <a:blip r:embed="rId1"/>
          <a:stretch/>
        </p:blipFill>
        <p:spPr>
          <a:xfrm>
            <a:off x="3581280" y="4876920"/>
            <a:ext cx="2133720" cy="142056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17C5-C002-40B7-A88F-030846023E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Grad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ur grading scale is as foll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90% - 100%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80% -  89%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70% -  79%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60% -  69%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59% and lowe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Zeros can really hurt your grade.  For example, if you had these 5 math grades:  100, 90, 80, 70, 80, your average would be an 84% for a “B”.  Replace one of the 80% grades with a zero, and your average would be a 68% for a “D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ke a decision right from the start not to let a zero lower your gra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7" descr="MCj03974820000[1]"/>
          <p:cNvPicPr/>
          <p:nvPr/>
        </p:nvPicPr>
        <p:blipFill>
          <a:blip r:embed="rId1"/>
          <a:stretch/>
        </p:blipFill>
        <p:spPr>
          <a:xfrm>
            <a:off x="5943600" y="609480"/>
            <a:ext cx="243828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5CAB-5A89-4312-86A9-1CC8949DAB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Classroom Wikispa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e have classroom Wikispaces for Teache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A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 Narrow"/>
                <a:hlinkClick r:id="rId1"/>
              </a:rPr>
              <a:t>www.5a2011.wikispace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B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 Narrow"/>
                <a:hlinkClick r:id="rId2"/>
              </a:rPr>
              <a:t>www.5th2011.wikispace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C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 Narrow"/>
                <a:hlinkClick r:id="rId3"/>
              </a:rPr>
              <a:t>www.cm5c.wikispace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at kind I find on the Wikispa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wsletters, math pages, spelling pages, spelling lists, reading logs, and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f students have parent permission slips signed, they will be able to post projects and writings that they are proud of on the Wik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e will not be putting our last names on the Wik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7" descr="MCj04421540000[1]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07E2-74D2-4C5A-A704-E0BBDF71FC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mportant Inform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Students will receive a newsletter on Fridays. The newsletter is the best way of keeping track of assignments, tests, and special announcements.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Progress reports will be sent home a few Fridays during each quarter to keep parents updated.  The progress report is to be signed and returned by the following Tuesday.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All of our newsletters will be posted on the Wiki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99ff99"/>
                </a:solidFill>
                <a:uFillTx/>
                <a:latin typeface="Arial Narrow"/>
                <a:hlinkClick r:id="rId1"/>
              </a:rPr>
              <a:t>www.5a2011.wikispaces.com/new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Use morning break (snack), lunch recess, and afternoon recess for restroom break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Snacks must be healthy snacks (no candy)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You are welcome to bring treats for your birthday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D13C-8B58-4101-913B-77ADEC7A2B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5" name="Picture 8" descr="MPj04385480000[1]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33044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  <p:sp>
        <p:nvSpPr>
          <p:cNvPr id="346" name="Rectangle 9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Thank you for your time!  Any question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051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6D9B-3CE2-4C61-A69D-262E164403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9" name="Text Box 572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Jokerman"/>
              </a:rPr>
              <a:t>We are looking forward to a great year!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50" name="Picture 574" descr="MPj04394420000[1]"/>
          <p:cNvPicPr/>
          <p:nvPr/>
        </p:nvPicPr>
        <p:blipFill>
          <a:blip r:embed="rId1"/>
          <a:stretch/>
        </p:blipFill>
        <p:spPr>
          <a:xfrm>
            <a:off x="3276720" y="1981080"/>
            <a:ext cx="2797200" cy="419112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35B0-5DFC-437D-ADE5-2D8C718C84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You can experience SUCC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 in 5th Grade by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ving a Positive At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articipating in Discussions and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ing Respo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oing Your B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E910-D710-4436-AD03-E1A2A6A62F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Narrow"/>
              </a:rPr>
              <a:t>The goal of 5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 Narrow"/>
              </a:rPr>
              <a:t> grad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 Narrow"/>
              </a:rPr>
              <a:t>is to get you ready for 6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 Narrow"/>
              </a:rPr>
              <a:t> grade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verything we do will help prepare you for middle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’ll accomplish our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e step at a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MCj04247300000[1]"/>
          <p:cNvPicPr/>
          <p:nvPr/>
        </p:nvPicPr>
        <p:blipFill>
          <a:blip r:embed="rId1"/>
          <a:stretch/>
        </p:blipFill>
        <p:spPr>
          <a:xfrm>
            <a:off x="3200400" y="2209680"/>
            <a:ext cx="1359000" cy="18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MCj04241660000[1]"/>
          <p:cNvPicPr/>
          <p:nvPr/>
        </p:nvPicPr>
        <p:blipFill>
          <a:blip r:embed="rId2"/>
          <a:stretch/>
        </p:blipFill>
        <p:spPr>
          <a:xfrm>
            <a:off x="4952880" y="2133720"/>
            <a:ext cx="94644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74A6-4671-4E76-80C1-E2B78E9B82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Are You Ready for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 Middle School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have a consistent 1 hour homework time four days a week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engage in 30 minutes of free reading everyday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use an assignment notebook to keep track of homework and tests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proofread and check for mistakes before turning work in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complete and turn in homework on tim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you able to read and take notes from textbooks and reference materials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ve you mastered your math facts? (50 facts in 2.5 minutes/100 facts in 5 minut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check with all of your teachers for make-up work when you’ve been absent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 you have effective study techniques and good test-taking skills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8" descr="MCj04419020000[1]"/>
          <p:cNvPicPr/>
          <p:nvPr/>
        </p:nvPicPr>
        <p:blipFill>
          <a:blip r:embed="rId1"/>
          <a:stretch/>
        </p:blipFill>
        <p:spPr>
          <a:xfrm>
            <a:off x="1676520" y="304920"/>
            <a:ext cx="106992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E55-674B-4B27-A27F-6AA2BAFF79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If not, that’s what 5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 Narrow"/>
              </a:rPr>
              <a:t>th</a:t>
            </a: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 grade is all abou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6" descr="MPj0438552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419720" cy="3316320"/>
          </a:xfrm>
          <a:prstGeom prst="rect">
            <a:avLst/>
          </a:prstGeom>
          <a:ln w="57240">
            <a:solidFill>
              <a:srgbClr val="99ff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0AC3-F354-43E6-B34C-B027521B0B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5th Grade Subjects and Teach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Reading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Narrow"/>
              </a:rPr>
              <a:t>Homeroom Teac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 (Writing)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s. Bouska – 5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pelling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rs. Stamets – 5C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ath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                               Mrs. Reed – 5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cience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ocial Stud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4495680" y="1447920"/>
            <a:ext cx="1067040" cy="3200400"/>
          </a:xfrm>
          <a:custGeom>
            <a:avLst/>
            <a:gdLst>
              <a:gd name="textAreaLeft" fmla="*/ 0 w 1067040"/>
              <a:gd name="textAreaRight" fmla="*/ 385200 w 1067040"/>
              <a:gd name="textAreaTop" fmla="*/ 37440 h 3200400"/>
              <a:gd name="textAreaBottom" fmla="*/ 31629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7"/>
                  <a:pt x="10800" y="814"/>
                </a:cubicBezTo>
                <a:lnTo>
                  <a:pt x="10800" y="9986"/>
                </a:lnTo>
                <a:cubicBezTo>
                  <a:pt x="10800" y="10393"/>
                  <a:pt x="16200" y="10800"/>
                  <a:pt x="21600" y="10800"/>
                </a:cubicBezTo>
                <a:cubicBezTo>
                  <a:pt x="16200" y="10800"/>
                  <a:pt x="10800" y="11207"/>
                  <a:pt x="10800" y="11614"/>
                </a:cubicBezTo>
                <a:lnTo>
                  <a:pt x="10800" y="20786"/>
                </a:lnTo>
                <a:cubicBezTo>
                  <a:pt x="10800" y="2119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aca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2" name="Picture 9" descr="MCj03974600000[1]"/>
          <p:cNvPicPr/>
          <p:nvPr/>
        </p:nvPicPr>
        <p:blipFill>
          <a:blip r:embed="rId1"/>
          <a:stretch/>
        </p:blipFill>
        <p:spPr>
          <a:xfrm>
            <a:off x="7696080" y="4952880"/>
            <a:ext cx="1219320" cy="1038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MCj04417320000[1]"/>
          <p:cNvPicPr/>
          <p:nvPr/>
        </p:nvPicPr>
        <p:blipFill>
          <a:blip r:embed="rId2"/>
          <a:stretch/>
        </p:blipFill>
        <p:spPr>
          <a:xfrm>
            <a:off x="53352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D310-C031-4D5A-8093-F8750262D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rt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rs. Hunt &amp; Mrs. Boy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usic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s. Smelt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.E.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rs. Nypa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brar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rs. Rus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mputer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s. Linds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assroom Guidance Lesson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rs. Schmi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2" descr="MCj04355460000[1]"/>
          <p:cNvPicPr/>
          <p:nvPr/>
        </p:nvPicPr>
        <p:blipFill>
          <a:blip r:embed="rId1"/>
          <a:stretch/>
        </p:blipFill>
        <p:spPr>
          <a:xfrm>
            <a:off x="457200" y="5029200"/>
            <a:ext cx="1523880" cy="917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j0285750"/>
          <p:cNvPicPr/>
          <p:nvPr/>
        </p:nvPicPr>
        <p:blipFill>
          <a:blip r:embed="rId2"/>
          <a:stretch/>
        </p:blipFill>
        <p:spPr>
          <a:xfrm>
            <a:off x="6324480" y="5181480"/>
            <a:ext cx="1984320" cy="12193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Narrow"/>
              </a:rPr>
              <a:t>5th Grade Subjects and Teach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th Grade Game Plan  2010-2011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FE69-5E0C-428B-8F3C-28A8DC72A8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The Intermediate Report Car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et’s begin by learning about the report card that you’ll receive at the end of each of the 4 quarters.  You will earn letter grades in each of the following subj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Read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Writing/Langu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Spell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Ma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Social Studie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Sci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5318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You will also receive an effort grade for each subject, as well as a mark for Outstanding, Expected, or Needs Improvement for Handwriting, Art, Music, and P.E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1:17:15Z</dcterms:created>
  <dc:creator>CMES</dc:creator>
  <dc:description/>
  <dc:language>en-US</dc:language>
  <cp:lastModifiedBy>Jennifer Bouska</cp:lastModifiedBy>
  <dcterms:modified xsi:type="dcterms:W3CDTF">2010-08-25T22:27:51Z</dcterms:modified>
  <cp:revision>93</cp:revision>
  <dc:subject/>
  <dc:title>5A HANDBOOK</dc:title>
</cp:coreProperties>
</file>